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A33-09B6-4DF4-92DD-854375AA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919-D356-4A5B-B265-86897421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BC6-3B50-464D-BD01-25C882FD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5A2-479F-4434-9DE9-4D443324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083-11CB-4DAE-A5E5-45FBE34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F6E-E85B-4706-BAAA-E826F440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B3B-0F45-4E75-AE23-827D5E58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06B-E516-43C9-9AAA-8FBF7DE4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2B4-0B11-4E20-A42A-D038C8CC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540-5D1F-4C75-B539-EA25B28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64E-B81D-43C6-82A1-D8D9573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187-813C-4469-9AA7-47C7771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0AC-FC06-4A05-846F-DA460480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i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52Z</dcterms:modified>
  <cp:revision>7</cp:revision>
  <dc:subject/>
  <dc:title>Words in a “Snap”</dc:title>
</cp:coreProperties>
</file>